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5860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简易方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828720" y="2060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用字母表示数 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5.png"/>
          <p:cNvPicPr/>
          <p:nvPr/>
        </p:nvPicPr>
        <p:blipFill>
          <a:blip r:embed="rId2"/>
          <a:stretch/>
        </p:blipFill>
        <p:spPr>
          <a:xfrm>
            <a:off x="826920" y="981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1" name="矩形 400388"/>
          <p:cNvSpPr/>
          <p:nvPr/>
        </p:nvSpPr>
        <p:spPr>
          <a:xfrm>
            <a:off x="1816200" y="4437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00389"/>
          <p:cNvSpPr/>
          <p:nvPr/>
        </p:nvSpPr>
        <p:spPr>
          <a:xfrm>
            <a:off x="3687840" y="4797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00390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324000" y="1557360"/>
            <a:ext cx="73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呈现情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763640" y="47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三角形需要几根小棒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971640" y="429264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小棒摆这样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三角形需要几根小棒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763640" y="51768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是怎样求用了多少根小棒的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971640" y="5553000"/>
            <a:ext cx="89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监控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三角形要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，求用多少根小棒就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乘三角形的个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三角形要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小棒”不会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02439"/>
          <p:cNvSpPr/>
          <p:nvPr/>
        </p:nvSpPr>
        <p:spPr>
          <a:xfrm>
            <a:off x="1819440" y="21337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用小棒摆图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402440" descr="80"/>
          <p:cNvPicPr/>
          <p:nvPr/>
        </p:nvPicPr>
        <p:blipFill>
          <a:blip r:embed="rId2"/>
          <a:stretch/>
        </p:blipFill>
        <p:spPr>
          <a:xfrm>
            <a:off x="1332000" y="2708280"/>
            <a:ext cx="6197400" cy="1008000"/>
          </a:xfrm>
          <a:prstGeom prst="rect">
            <a:avLst/>
          </a:prstGeom>
          <a:ln w="0">
            <a:noFill/>
          </a:ln>
        </p:spPr>
      </p:pic>
      <p:sp>
        <p:nvSpPr>
          <p:cNvPr id="52" name="矩形 402441"/>
          <p:cNvSpPr/>
          <p:nvPr/>
        </p:nvSpPr>
        <p:spPr>
          <a:xfrm>
            <a:off x="520920" y="4076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02442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1374840" y="485928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小棒摆这样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正方形需要几根小棒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611280" y="45450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果我们有很多小棒，可以一直摆下去，可以摆多少个三角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8"/>
          <p:cNvSpPr/>
          <p:nvPr/>
        </p:nvSpPr>
        <p:spPr>
          <a:xfrm>
            <a:off x="1374840" y="524844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. 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正方形需要几根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324000" y="1557360"/>
            <a:ext cx="73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呈现情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03462"/>
          <p:cNvSpPr/>
          <p:nvPr/>
        </p:nvSpPr>
        <p:spPr>
          <a:xfrm>
            <a:off x="1819440" y="21337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用小棒摆图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403463" descr="84"/>
          <p:cNvPicPr/>
          <p:nvPr/>
        </p:nvPicPr>
        <p:blipFill>
          <a:blip r:embed="rId2"/>
          <a:stretch/>
        </p:blipFill>
        <p:spPr>
          <a:xfrm>
            <a:off x="1908000" y="2781360"/>
            <a:ext cx="4714920" cy="1439640"/>
          </a:xfrm>
          <a:prstGeom prst="rect">
            <a:avLst/>
          </a:prstGeom>
          <a:ln w="0">
            <a:noFill/>
          </a:ln>
        </p:spPr>
      </p:pic>
      <p:sp>
        <p:nvSpPr>
          <p:cNvPr id="61" name="矩形 403464"/>
          <p:cNvSpPr/>
          <p:nvPr/>
        </p:nvSpPr>
        <p:spPr>
          <a:xfrm>
            <a:off x="1816200" y="4437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03465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404482" descr=""/>
          <p:cNvPicPr/>
          <p:nvPr/>
        </p:nvPicPr>
        <p:blipFill>
          <a:blip r:embed="rId3"/>
          <a:stretch/>
        </p:blipFill>
        <p:spPr>
          <a:xfrm>
            <a:off x="361800" y="271440"/>
            <a:ext cx="836316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684360" y="35002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监控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正方形要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求用多少根小棒就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乘正方形的个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正方形要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棒”不会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84360" y="270828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是怎样求用了多少根小棒的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467000" y="43639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果我们有很多小棒，可以一直摆下去，可以摆多少个正方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324000" y="1557360"/>
            <a:ext cx="73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呈现情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05510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324000" y="1557360"/>
            <a:ext cx="8351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用含有字母的式子表示所用小棒的根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971640" y="2349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像这样摆三角形和正方形，你能分别表示出它们各用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少根小棒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976320" y="30798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：用字母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示三角形、正方形的个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976320" y="350208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：三角形根数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方形根数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4322880" y="4365720"/>
            <a:ext cx="9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像这样摆三角形和正方形，一共要用多少根小棒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971640" y="483228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：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根       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0"/>
          <p:cNvSpPr/>
          <p:nvPr/>
        </p:nvSpPr>
        <p:spPr>
          <a:xfrm>
            <a:off x="2158200" y="3933720"/>
            <a:ext cx="20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以表示哪些数呢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3245400" y="5302080"/>
            <a:ext cx="7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两个式子对吗？说说理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24000" y="1557360"/>
            <a:ext cx="741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代入给定的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值计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547640" y="3068640"/>
            <a:ext cx="43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1311120" y="30495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3369600" y="2276640"/>
            <a:ext cx="303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既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都表示一共需要的小棒根数，那我们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以用等号把这两个式子连接起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2487240" y="3571920"/>
            <a:ext cx="35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仔细观察这个式子，像我们前面学习的哪个定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2643840" y="4076640"/>
            <a:ext cx="14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当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时，一共用了多少根小棒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07560"/>
          <p:cNvSpPr/>
          <p:nvPr/>
        </p:nvSpPr>
        <p:spPr>
          <a:xfrm>
            <a:off x="0" y="6021360"/>
            <a:ext cx="58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人教版五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20083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07561"/>
          <p:cNvSpPr/>
          <p:nvPr/>
        </p:nvSpPr>
        <p:spPr>
          <a:xfrm>
            <a:off x="1816200" y="4437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354120" y="5489640"/>
            <a:ext cx="10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着用今天学习的知识，解决这个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724400" y="591192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一说你的想法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08580" descr="85"/>
          <p:cNvPicPr/>
          <p:nvPr/>
        </p:nvPicPr>
        <p:blipFill>
          <a:blip r:embed="rId2"/>
          <a:stretch/>
        </p:blipFill>
        <p:spPr>
          <a:xfrm>
            <a:off x="1908000" y="1628640"/>
            <a:ext cx="5172120" cy="1800360"/>
          </a:xfrm>
          <a:prstGeom prst="rect">
            <a:avLst/>
          </a:prstGeom>
          <a:ln w="0">
            <a:noFill/>
          </a:ln>
        </p:spPr>
      </p:pic>
      <p:sp>
        <p:nvSpPr>
          <p:cNvPr id="93" name="矩形 408581"/>
          <p:cNvSpPr/>
          <p:nvPr/>
        </p:nvSpPr>
        <p:spPr>
          <a:xfrm>
            <a:off x="1258920" y="3284640"/>
            <a:ext cx="73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动车的速度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千米</a:t>
            </a:r>
            <a:r>
              <a:rPr b="0" i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/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时，普通列车的速度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0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千米</a:t>
            </a:r>
            <a:r>
              <a:rPr b="0" i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/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行驶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时，动车和普通列车一共行了多少千米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行驶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时，动车比普通列车多行了多少千米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2124000" y="40053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20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20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20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2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40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2124000" y="483228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20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20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20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2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0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08584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468360" y="2133720"/>
            <a:ext cx="763272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， 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09603"/>
          <p:cNvSpPr/>
          <p:nvPr/>
        </p:nvSpPr>
        <p:spPr>
          <a:xfrm>
            <a:off x="1816200" y="4437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09604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3T01:53:3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